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Vickie Linville" initials="VL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0-05-06T22:21:31.407000000" idx="1">
    <p:pos x="1738" y="2678"/>
    <p:text>Does a basset hound ever express happiness?  If so, how?</p:text>
  </p:cm>
  <p:cm authorId="0" dt="2010-05-06T22:23:02.667000000" idx="2">
    <p:pos x="5575" y="192"/>
    <p:text>If this is a basset hound farm, why are there no people or dogs pictured?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BF5-452F-4DE7-9ECD-706ADD34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FDF8-18F4-4189-97A1-8A140429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E55932-D6E3-48CC-8E14-B5AAB176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926062-C302-4DFA-96D3-1D9EBFE5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A528D4-6E29-473B-8A68-7F77E0E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12D39-24BC-4B4E-919D-0146F11F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EB4B32-CD39-4011-9F0C-F5ADC01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EF3E80-0C3F-41F6-9F0A-AD3BC5E8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8833E3-0559-40D3-B6BE-7AF0D68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EAD6A1-C60E-4BCB-8027-E69018BA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E0CDC-4655-42DD-A236-442B9474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505-F7BD-4C9A-98A8-72DC6C6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EE3-2B34-430B-BBCD-9BAE9FD9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B803C-5071-46F6-A5D0-F01F4C0B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CFB9-9574-4026-AF1E-24A8053A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64EA6-6155-47AC-8DDD-37C342CD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80FCC-98AF-42A1-B4B7-122612CD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1690D-D402-41D8-9CD3-24677124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D00DD-6361-4C1E-8084-668496AD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7F1B5-88FD-47AD-9B8A-3B20F61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5A2-0EFF-4D59-B7A3-0352EF58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1F598-99EB-472A-BBFE-E473A8D7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7CF74-1405-41C2-849A-97CC244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090C8-CA8D-4085-A87A-35986D0F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A019B8-0FEA-493E-B1ED-B709BD32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06265-2B1C-4907-BE1E-5BEC82A0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C9514-C9E3-4981-88CD-7CB2AEAD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54BF7-2789-4FDD-981B-73107DF6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B5634-C72F-425C-9304-B6DC723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CBD1-033A-44F4-8E89-45F89B10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7A033-4C9D-4DE2-898F-E7E674AF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34A3-6CE3-481C-8542-AD228703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6FD5A-B6C7-45E2-B4E7-D918D52D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810D-F024-425C-9883-4BA2F77B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7CF86-BC7E-4667-9856-8596003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B9B8C-2FE4-4717-BDA1-45CF3DF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D695B-50EB-4B9E-9C73-2729408F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9C106-1E8F-4485-9DA7-82D23C1B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71371-2EA4-4B64-A4D2-7937F1A1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AFBCDD-0174-4B5C-B572-B1895299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72EF20-D551-4373-8997-E74DBB9E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9E6DF-E11C-42F8-AADF-419E84D2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C8A1-E939-4EF6-8FC9-5564FF5F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66E487-3561-4C7E-9404-98557FAC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2B29B-5DE2-445C-8259-1158AF0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54E5B-83ED-4A35-B90D-B0FD4501F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137C5-35AA-4C1B-BC1F-0B10E085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25AD77-FD41-4ACF-ABC4-DB037DFC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076D64-0F21-4C76-8FB8-54400221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F8A3DB-1C19-4F3F-AF72-9A229EE4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F63715-CB36-4E8E-BBCA-4844EE08D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EAC94C-337D-480D-BCD5-C364BEA4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725F8-1F78-4C03-A19A-C24D4C80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035-E41D-456C-AFB4-8B5D9D55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971D8-E371-4687-ACA3-4E2CE88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2D81-FD67-4C3F-B63B-CCC63BB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53D4-DDF1-4F4C-BDF7-DBD5507B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06C55-DD31-477B-9723-6F61EBD6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F3E47-FC4F-4D06-9D4C-18B0490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2365D-9C28-4577-B1B2-A55418E1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725A3-A3AA-4A67-B647-CAF9F6B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F4B2E-F5F5-4FA9-A294-27868945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8EE2-7247-4076-A177-E57F9CF9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5A617-8B3F-4AE7-9A35-8BD7DE5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935-ADB4-4926-9DB2-8FA82A4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1765-7C36-4A78-9F46-5D759598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9B534-212F-4127-8901-4B08B18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3ECE8-21E6-42BE-B2ED-26BFD165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BB3A6-EFA3-400D-A164-F5DBFF2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27E2A-F57A-4BD2-BAD5-BB13E46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72B1E-8AFB-4A54-B4E7-F8A5D1F4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83E1-8EFE-4127-94FE-906E6C02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C04E-DE84-4537-94F4-42102606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9A1A7-5BCB-407B-9101-014EF71A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47202-0EAD-4383-B8AF-AD27B1D6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A29-9E59-4BAC-A75A-39CAF9A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CD9FB-37A7-448F-829C-848FE988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76B39-5405-464B-A3EB-DBE001E2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B9E88-8FCC-45D0-AAED-26B70F96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68810-0D7A-42FA-892F-4114974D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2ADEB-8C5D-4741-B647-B734D998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26E91-A72B-4AFB-BA4D-28AADCF2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E5355-38DA-4D62-9133-11CDDB64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3D8BF-4597-4AA7-B8CE-FC253070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020FB-41DB-4B21-9B5E-BAD18331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45294-B6E8-463B-94CF-907E5BB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DE1-6575-4AE9-A0E7-B974940C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434D-CA30-4259-ADB1-FA1473F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5AA2-7317-4BDC-BA9F-AC80FE64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F1DB-DAB0-4EB2-B0AF-C11D22A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E6A3-98AF-4BEA-8372-F1304079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F89DB-2C07-4202-9475-BA00769C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649D3B-179F-4433-8982-393E9949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872DE-2B7F-4E0F-8238-DFAD5233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D53A6-9076-44E4-A101-3E2C413E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9D4E62-9260-46E3-932A-DC3C17DB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B5002F-5CBA-4678-9CEF-61A8C39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C5D-8204-47FE-BB40-73463F8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B75336-5E83-43DB-B611-909CD84A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28741E-209F-48AC-9350-FD818258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3A627-9A71-4F06-A0A2-D245451B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E02198-E966-458E-88A8-6E23740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3C5627-F6B1-4017-AB28-2976DF0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F64AC-780A-4E22-A1F2-5D06F021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4893C9-9C85-4E84-B8D9-0351DCCE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D82559-7D63-430F-B83F-69B9C55C7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5E362-FC59-4AB8-A994-3768CC2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F6E19C-9E85-4126-A874-4F7B2A4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C51-CAD9-480D-8311-2DF851161A7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AB55-7BF4-4499-85E6-2CA9E7F5FAFF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DF93-B16F-4917-BB54-415543CD8E1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287-CC0E-45DA-B4D7-00DA8CAAF6FE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743C-EF63-4001-8109-5D2CDAC4A766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1786-5521-4B8A-BB77-C41FE8CFDFB9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76BA-9763-42C1-B8E6-CB32D2266CDB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857C-70EA-4F09-82A6-EF31EE563CD3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61A6-F326-46F9-B233-9885DA53E1A4}" type="slidenum">
              <a:rPr b="0" lang="en-US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bookstorecommunity.com/wp-content/uploads/2010/03/applewhites.jpg" TargetMode="External"/><Relationship Id="rId3" Type="http://schemas.openxmlformats.org/officeDocument/2006/relationships/hyperlink" Target="http://nancykeane.com/booktalks/tolan_surviving.htm" TargetMode="External"/><Relationship Id="rId4" Type="http://schemas.openxmlformats.org/officeDocument/2006/relationships/hyperlink" Target="http://www.answers.com/topic/annotate" TargetMode="External"/><Relationship Id="rId5" Type="http://schemas.openxmlformats.org/officeDocument/2006/relationships/hyperlink" Target="http://www.ilearnincambodia.org/sskills/activeread.pdf" TargetMode="External"/><Relationship Id="rId6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Booktalk%20for%20Active%20Reading%20Intro.doc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rds.yahoo.com/_ylt=A0geu539c.NLjWEARh5XNyoA;_ylu=X3oDMTBzM2lkdmdsBHNlYwNzYwRjb2xvA2FjMgR2dGlkA0Y5MTlfOTA-/SIG=1nbmm0huc/EXP=1273283965/**http%3A//images.search.yahoo.com/images/view%3Fback=http%253A%252F%252Fsearch.yahoo.com%252Fsearch%253Fei%253DUTF-8%2526p%253Dbasset%252Bhound%252Bpictures%2526sado%253D1%26w=593%26h=480%26imgurl=www.infomascota.com%252Fcomunidad%252Falbum%252Fdata%252Fmedia%252F1%252Fbasset_hound.jpg%26size=35.9kB%26name=basset%2Bhound%2Bjpg%26rcurl=http%253A%252F%252Fwww.nocturnabsas.com.ar%252Fforum%252Fmascotas-y-animales%252F254891-basset-hound.html%26rurl=http%253A%252F%252Fwww.nocturnabsas.com.ar%252Fforum%252Fmascotas-y-animales%252F254891-basset-hound.html%26p=basset%2Bhound%26type=jpeg%26no=3%26tt=275%252C577%26oid=74e351be7af428ac%26tit=basset%2Bhound%2Bjpg%26sigr=12hoh9pg0%26sigi=121qs761q%26sigb=126vgbk0r%26fr=affiliates_kw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techsteps.com/T8x/prj/prj_main.aspx?g=7" TargetMode="External"/><Relationship Id="rId3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74200" cy="22492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echSteps Project 1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1107720" y="5257800"/>
            <a:ext cx="78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:  What does it mean to participate in ‘active reading?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6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82648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http://kidsbooks4less.com/novels/applewhites.jpg"/>
          <p:cNvPicPr/>
          <p:nvPr/>
        </p:nvPicPr>
        <p:blipFill>
          <a:blip r:embed="rId1"/>
          <a:stretch/>
        </p:blipFill>
        <p:spPr>
          <a:xfrm>
            <a:off x="4495680" y="152280"/>
            <a:ext cx="4419720" cy="655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http://www.rebeccacaudill.org/teacher/covergallery/2005/surv-app.jpg"/>
          <p:cNvPicPr/>
          <p:nvPr/>
        </p:nvPicPr>
        <p:blipFill>
          <a:blip r:embed="rId2"/>
          <a:stretch/>
        </p:blipFill>
        <p:spPr>
          <a:xfrm>
            <a:off x="152280" y="228600"/>
            <a:ext cx="4343400" cy="644040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4"/>
          <p:cNvSpPr/>
          <p:nvPr/>
        </p:nvSpPr>
        <p:spPr>
          <a:xfrm>
            <a:off x="457200" y="6477120"/>
            <a:ext cx="3809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ttp://www.rebeccacaudill.org/teacher/covergallery/2005/surv-app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724280" y="6477120"/>
            <a:ext cx="426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http://bookstorecommunity.com/wp-content/uploads/2010/03/applewhites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699760" cy="13604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3"/>
          <p:cNvSpPr/>
          <p:nvPr/>
        </p:nvSpPr>
        <p:spPr>
          <a:xfrm>
            <a:off x="533520" y="1549440"/>
            <a:ext cx="8458200" cy="108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Arial"/>
                <a:hlinkClick r:id="rId2"/>
              </a:rPr>
              <a:t>http://bookstorecommunity.com/wp-content/uploads/2010/03/applewhite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3"/>
              </a:rPr>
              <a:t>http://nancykeane.com/booktalks/tolan_surviving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4"/>
              </a:rPr>
              <a:t>http://www.answers.com/topic/anno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Arial"/>
                <a:hlinkClick r:id="rId5"/>
              </a:rPr>
              <a:t>http://www.ilearnincambodia.org/sskills/activeread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www.infomascota.com/comunidad/album/data/media/1/basset_hound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rebeccacaudill.org/teacher/covergallery/2005/surv-app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http://www.taitsbassets.net/assets/images/taits-bassets-farm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thefreedictionary.com/electronic+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techstep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notate Digital Tex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EQ:  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What does it mean to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Rockwell"/>
                <a:hlinkClick r:id="rId1" action="ppaction://hlinksldjump"/>
              </a:rPr>
              <a:t>annotate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 ‘digital text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Annotate a Digital Imag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Rockwell"/>
              </a:rPr>
              <a:t>EQ: </a:t>
            </a: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 What does it mean to annotate a ‘digital image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Title 4" descr=""/>
          <p:cNvPicPr/>
          <p:nvPr/>
        </p:nvPicPr>
        <p:blipFill>
          <a:blip r:embed="rId2"/>
          <a:stretch/>
        </p:blipFill>
        <p:spPr>
          <a:xfrm>
            <a:off x="450720" y="0"/>
            <a:ext cx="87426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4280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12400" cy="236232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an·no·tate  (n-tt)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·ed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·ing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an·no·tates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tr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To furnish (a literary work) with critical commentary or explanatory notes; gloss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v.intr.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To gloss a text.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[Latin annotre, annott-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to note down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: ad-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ad-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+ notre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to write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 (from nota, </a:t>
            </a:r>
            <a:r>
              <a:rPr b="0" i="1" lang="en-US" sz="2500" spc="-1" strike="noStrike">
                <a:solidFill>
                  <a:srgbClr val="ffffff"/>
                </a:solidFill>
                <a:latin typeface="Rockwell"/>
              </a:rPr>
              <a:t>note</a:t>
            </a:r>
            <a:r>
              <a:rPr b="0" lang="en-US" sz="2500" spc="-1" strike="noStrike">
                <a:solidFill>
                  <a:srgbClr val="ffffff"/>
                </a:solidFill>
                <a:latin typeface="Rockwell"/>
              </a:rPr>
              <a:t>; see gn- in Indo-European roots).]</a:t>
            </a: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438880" y="5486400"/>
            <a:ext cx="309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www.answers.com/topic/anno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5407200" y="58672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thefreedictionary.com/annot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07600" cy="224280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 &amp; Complet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 Thursday, May 1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762120" y="38088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ligraph421 BT"/>
              </a:rPr>
              <a:t>Nancy Keane’s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ligraph421 BT"/>
              </a:rPr>
              <a:t>Quick &amp; Simple Booktalk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2666880" y="3429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Rockwell"/>
              </a:rPr>
              <a:t>http://nancykeane.com/booktalks/tolan_surviving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5430960" y="5486400"/>
            <a:ext cx="2535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ord 2007 </a:t>
            </a: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1"/>
              </a:rPr>
              <a:t>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64400" cy="22428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egin &amp; Complete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Friday, May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Rockwel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6063840" y="42670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techSteps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http://www.taitsbassets.net/assets/images/taits-bassets-farm.jpg"/>
          <p:cNvPicPr/>
          <p:nvPr/>
        </p:nvPicPr>
        <p:blipFill>
          <a:blip r:embed="rId1"/>
          <a:stretch/>
        </p:blipFill>
        <p:spPr>
          <a:xfrm>
            <a:off x="380880" y="304920"/>
            <a:ext cx="8481960" cy="6324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www.infomascota.com/comunidad/album/data/media/1/basset_houn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4191120"/>
            <a:ext cx="2819520" cy="2404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6"/>
          <p:cNvSpPr/>
          <p:nvPr/>
        </p:nvSpPr>
        <p:spPr>
          <a:xfrm>
            <a:off x="4876920" y="304920"/>
            <a:ext cx="39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http://www.taitsbassets.net/assets/images/taits-bassets-farm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304920" y="651996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Rockwell"/>
              </a:rPr>
              <a:t>http://www.infomascota.com/comunidad/album/data/media/1/basset_hound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450720" y="66600"/>
            <a:ext cx="8699760" cy="136044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4876920" y="6172200"/>
            <a:ext cx="3886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db5353"/>
                </a:solidFill>
                <a:uFillTx/>
                <a:latin typeface="Rockwell"/>
                <a:hlinkClick r:id="rId2"/>
              </a:rPr>
              <a:t>techsteps rubric for Active Rea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515440" cy="22428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8388360" cy="304776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(EXIT SLIP) for today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py &amp; answer today’s EQ: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Rockwell"/>
              </a:rPr>
              <a:t>What does it mean to participate in ‘active reading?’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04:08:09Z</dcterms:created>
  <dc:creator>Vickie Linville</dc:creator>
  <dc:description/>
  <dc:language>en-US</dc:language>
  <cp:lastModifiedBy>Vickie Linville</cp:lastModifiedBy>
  <dcterms:modified xsi:type="dcterms:W3CDTF">2010-05-09T04:24:12Z</dcterms:modified>
  <cp:revision>31</cp:revision>
  <dc:subject/>
  <dc:title>ACTIVE READING</dc:title>
</cp:coreProperties>
</file>